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F17-CC33-4ABF-92DA-6DF2E31891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슬로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보험 필요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확대하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의료비를 건강보험으로” “암부터 무상의료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재테크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노후 보장 대책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잘 만든 무상의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열 자식 안부럽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강의개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논의 경과 및 무상의료 정책에 대한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경제적 조건과 정부 정책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떻게 실현할 것인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AQ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 의료기관이 서비스 질이 더 높지 않은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면 서비스 질이 낮아지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의료 보험이 보장성이 더 좋은 것 아닌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은 낭비 요소가 많고 방만하게 운영한다는데…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려면 돈이 너무 많이 들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도덕적 해이로 진료비가 급격하게 상승하지 않겠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험자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자 일부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100/10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부담 급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제외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법정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급병실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식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시적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형 미용 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임의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인정 의료행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3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9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48,77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 중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,46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6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7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보건사회연구원 연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유무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있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5%               19.3%            9.7%                12.7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없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5%               80.7%          90.3%                87.3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사유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경제적 어려움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91.3%             89.5%            70.5%             81.5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일 중단으로 수입감소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3%             10.5%            19.1%             15.9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 시간이 없어서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.0%             13.2%            15.1%             12.0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66C-7BA4-4E43-B7D9-9721567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F1A-D7EB-4C5F-AB94-0D389D0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C4B-52B1-435F-828C-5DEB27EE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880-4315-4543-9880-5F750D0D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E2A-FBF0-4E3B-852E-08AF822E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78C-3751-42C8-ACD4-70AF190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1BD-AB37-4A96-9898-DA217818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524-F3DA-4B82-9CDB-3AF163D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585-AF73-4072-8D8F-ED07423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BBA-6FE7-4523-B467-D8C8E16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C6B-5982-4540-A283-62B8F0B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6D-CFAA-4EB2-9AD3-5EBA4FC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642-0432-420F-974A-EA15511DCE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7924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한국의 무상의료운동 경과와 전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410080"/>
            <a:ext cx="464832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주노동당 정책위원회 최은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 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병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원 식대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건보 적용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서울경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환자 본인부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007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％로  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국민일보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癌 앞에 맥 못추는 건강보험…본인 부담금 하루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만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007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동아일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657600" y="3662280"/>
          <a:ext cx="25560" cy="12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270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뉴시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민노당의 무모한 실험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현실화될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CBS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전염병예방법개정안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통과…내년부터 동네병원에서 무료예방접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SBS]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김칫국만 마신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세 미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료예방접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한국의 무상의료운동 시작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노동조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암부터 무상의료 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은 사회적 권리라고 인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실현 가능성 확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등 보장성 일부 확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정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실현경로 구체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무상의료에 대한 의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식상하다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.”   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성과 없이 또 주장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?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보건의료운동의 목표라기 보다는 수단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공공의료가 더 적절한 표현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의료시장화에 대한 대안으로 무상의료 의제화 필요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장기적 목표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여전히 가장 선명하고 대중적인 슬로건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료시장화에 대한 대응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한미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FTA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의료법 개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보험 새 판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주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진료비지불방식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모든 비급여 급여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영의료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zero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플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투자전략에 대응하는 프레임 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사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양극화 해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의료 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대 법안 마무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예방접종 예산 확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0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총선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건강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 공약개발팀 운영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인 및 보건의료기관에 대한 공공적 관리 기능 복원’ 등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개 부분 정책개발 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노조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사회단체와 공동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456840"/>
            <a:ext cx="5334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순      서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219320"/>
            <a:ext cx="53341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308040"/>
            <a:ext cx="7632720" cy="181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운동에서 주장해온 ‘건강보험 보장성강화’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공의료기관 확대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민주노동당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부문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으로 채택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건의료재원조달 국가 책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공의료기관 확대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국영보건의료기관의 역할 강화와 민간의료기관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2004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총선에서 공약하면서 사회의제화 시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404640"/>
            <a:ext cx="7632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8680" y="2209680"/>
            <a:ext cx="3665520" cy="223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인적 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건강보험 보장성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52%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시장화 추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민간의료보험 확대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209680"/>
            <a:ext cx="3598920" cy="221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적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보장성 확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(90%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수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이용 형평성 확보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경제적 지리적 장벽 제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562720"/>
            <a:ext cx="35892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10364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5562720"/>
            <a:ext cx="32004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6830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7122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63680"/>
            <a:ext cx="3822480" cy="20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간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의료기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의료법인 영리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국영리병원 유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209680"/>
            <a:ext cx="363384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공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공공의료기관 확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-&gt;50%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257800"/>
            <a:ext cx="3433680" cy="104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미국식 의료공급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207040"/>
            <a:ext cx="3011760" cy="11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176976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2300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404640"/>
            <a:ext cx="6840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523880"/>
          <a:ext cx="8534160" cy="4861080"/>
        </p:xfrm>
        <a:graphic>
          <a:graphicData uri="http://schemas.openxmlformats.org/drawingml/2006/table">
            <a:tbl>
              <a:tblPr/>
              <a:tblGrid>
                <a:gridCol w="761760"/>
                <a:gridCol w="7772400"/>
              </a:tblGrid>
              <a:tr h="4892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①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건강보험 비급여의 급여화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② 의료급여 대상자의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차상위 계층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하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%)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폐지 ④ 임산부 및 영유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5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세 미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적 협약방식의 수가 계약 실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서비스적 정성평가 도입  ③ 차상위계층 보험료면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약품등재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positive list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 및 약가계약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부문 총액 계약제 및 인두제 실시 ⑥ 장기요양수가 개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⑦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보험료 부담율 개편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가입자 부담율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도시형보건지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구의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동 시범 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6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지역중심공공병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0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상 규모 확장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민간중소병원 매입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통한 공공요양병원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기관 관리 일원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강보험법 및 의료급여법 부분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에 관한 법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법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33336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2600" y="1600200"/>
          <a:ext cx="8577360" cy="4800240"/>
        </p:xfrm>
        <a:graphic>
          <a:graphicData uri="http://schemas.openxmlformats.org/drawingml/2006/table">
            <a:tbl>
              <a:tblPr/>
              <a:tblGrid>
                <a:gridCol w="725400"/>
                <a:gridCol w="7851960"/>
              </a:tblGrid>
              <a:tr h="5065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보험 하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폐지 ②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상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애인 본인부담 폐지 및 포괄적 재활급여 제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④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상한선 인하 및 소득구간별 차등 적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급여와 건강보험의 통합적 운영  ② 필수약품 지정 및 특허권 제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약가결정구조 개혁  ④ 치과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방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험료 부담율 개편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입자 부담율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②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④ 공공의료전달체계 확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민간부문 자본비용 제공 및 소유지배구조 개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⑥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인력 공급 공공화 추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과대학 무상교육 실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보건의료위원회 구성  ② 건강보험법 및 의료급여법 전면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법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40464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447920"/>
          <a:ext cx="8534160" cy="4933800"/>
        </p:xfrm>
        <a:graphic>
          <a:graphicData uri="http://schemas.openxmlformats.org/drawingml/2006/table">
            <a:tbl>
              <a:tblPr/>
              <a:tblGrid>
                <a:gridCol w="1601640"/>
                <a:gridCol w="6932520"/>
              </a:tblGrid>
              <a:tr h="5331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 전면폐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②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상병수당의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재보험과 건강보험의 통합적 운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원 순서로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험료 부담의 누진제 적용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제약회사 설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의료위원회에 지역 공공의료기관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획 및 평가 권한 위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보장청 신설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4508640"/>
            <a:ext cx="7086600" cy="181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무상의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권 보장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 형평성  확보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빈곤과 양극화에 대한 대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04640"/>
            <a:ext cx="79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1676520"/>
            <a:ext cx="5688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정부의 의료 개방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시장화 중심 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666880"/>
            <a:ext cx="289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양면적 국민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666880"/>
            <a:ext cx="29718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병원 영리화 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038480" y="3009960"/>
            <a:ext cx="1066680" cy="6858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 rot="8100000">
            <a:off x="5637960" y="358092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rot="2700000">
            <a:off x="2476080" y="361944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2:55:06Z</dcterms:created>
  <dc:creator>minno</dc:creator>
  <dc:description/>
  <dc:language>en-US</dc:language>
  <cp:lastModifiedBy>Admin</cp:lastModifiedBy>
  <dcterms:modified xsi:type="dcterms:W3CDTF">2007-04-14T07:09:08Z</dcterms:modified>
  <cp:revision>63</cp:revision>
  <dc:subject/>
  <dc:title>PowerPoint 프레젠테이션</dc:title>
</cp:coreProperties>
</file>