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F267-5E1B-408A-BCF7-D5F8F9F50A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슬로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간보험 필요 없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 확대하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 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의료비를 건강보험으로” “암부터 무상의료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는 재테크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는 노후 보장 대책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 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잘 만든 무상의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열 자식 안부럽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강의개요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논의 경과 및 무상의료 정책에 대한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회경제적 조건과 정부 정책 설명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어떻게 실현할 것인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AQ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간 의료기관이 서비스 질이 더 높지 않은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를 하면 서비스 질이 낮아지지 않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간의료 보험이 보장성이 더 좋은 것 아닌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은 낭비 요소가 많고 방만하게 운영한다는데…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무상의료를 하려면 돈이 너무 많이 들지 않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도덕적 해이로 진료비가 급격하게 상승하지 않겠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 적용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급여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–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험자 부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환자 일부 부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+ 100/100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인부담 급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건강보험 적용 제외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급여 대상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–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법정 비급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급병실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식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한시적 비급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성형 미용 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 +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임의 비급여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인정 의료행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병원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8.3%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의원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8.9%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 공공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48,773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개 중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,463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개만 공공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병원 병상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6%,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의원 병상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.7%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 공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보건사회연구원 연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치료 포기 유무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이하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-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이상     전        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있        음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5%               19.3%            9.7%                12.7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없        음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75%               80.7%          90.3%                87.3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치료 포기 사유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이하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00-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20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만원 이상     전       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경제적 어려움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91.3%             89.5%            70.5%             81.5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일 중단으로 수입감소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.3%             10.5%            19.1%             15.9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갈 시간이 없어서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6.0%             13.2%            15.1%             12.0%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223-4B7F-47EC-8348-B7653E55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3A7-8036-4FA5-8F9D-B06E7EEF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1DA-5D87-43D7-904C-298F14E5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86D-4A5D-4232-9618-5736BCD8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026-D524-47DF-BFF4-10DA809A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FE1-D56A-4B5A-9DC2-16BE2179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2CD-AFE9-40DD-86FB-74207BF9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CE2-10B5-4D7E-8C1C-C10B426E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FA2-9253-4928-81C7-FA88108D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1A0-E0A2-4412-A4FF-83ABD1B7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F27-1FC8-4B9B-9B11-B2CEDBCD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3B0-2DF3-4C48-8ECE-838F3BB9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91EF-4FCD-4F8F-860F-47821C8DD1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914400"/>
            <a:ext cx="792468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한국의 무상의료운동 경과와 전망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410080"/>
            <a:ext cx="464832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민주노동당 정책위원회 최은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775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 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병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의원 식대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 건보 적용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(2006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서울경제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암환자 본인부담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2007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25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％로   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(2005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국민일보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癌 앞에 맥 못추는 건강보험…본인 부담금 하루에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만원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007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동아일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657600" y="3662280"/>
          <a:ext cx="25560" cy="12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270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뉴시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]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민노당의 무모한 실험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?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상의료 현실화될까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[CBS]</a:t>
            </a:r>
            <a:br>
              <a:rPr sz="3200"/>
            </a:b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전염병예방법개정안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통과…내년부터 동네병원에서 무료예방접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[SBS]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김칫국만 마신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6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세 미만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료예방접종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'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한국의 무상의료운동 시작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민주노동당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노동조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암부터 무상의료 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건강은 사회적 권리라고 인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상의료 실현 가능성 확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암등 보장성 일부 확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무상의료 정책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실현경로 구체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9898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무상의료에 대한 의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식상하다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.”   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성과 없이 또 주장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?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보건의료운동의 목표라기 보다는 수단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무상공공의료가 더 적절한 표현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의료시장화에 대한 대안으로 무상의료 의제화 필요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장기적 목표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여전히 가장 선명하고 대중적인 슬로건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의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의료시장화에 대한 대응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한미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FTA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의료법 개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건강보험 새 판짜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건강보험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주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진료비지불방식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모든 비급여 급여화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민영의료보험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zero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플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건강투자전략에 대응하는 프레임 짜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건강사회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건강양극화 해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무상의료운동의 성과와 과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무상의료 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대 법안 마무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무상예방접종 예산 확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7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년 대선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, 08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년 총선 대응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건강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보건의료 공약개발팀 운영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보건의료인 및 보건의료기관에 대한 공공적 관리 기능 복원’ 등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개 부분 정책개발 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민주노동당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노조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사회단체와 공동 대응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456840"/>
            <a:ext cx="5334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순      서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219320"/>
            <a:ext cx="533412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3308040"/>
            <a:ext cx="7632720" cy="181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사진으로 보는 무상의료운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무상의료운동 성과와 과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의료운동에서 주장해온 ‘건강보험 보장성강화’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공공의료기관 확대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민주노동당 강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의료부문 강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으로 채택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보건의료재원조달 국가 책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공의료기관 확대 강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국영보건의료기관의 역할 강화와 민간의료기관 공공성 강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대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2004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총선에서 공약하면서 사회의제화 시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404640"/>
            <a:ext cx="7632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정책방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28680" y="2209680"/>
            <a:ext cx="3665520" cy="223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개인적  질병 부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건강보험 보장성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52%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의료 시장화 추진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민간의료보험 확대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2209680"/>
            <a:ext cx="3598920" cy="221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적 질병 부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보장성 확대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(90%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수준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의료 이용 형평성 확보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경제적 지리적 장벽 제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5562720"/>
            <a:ext cx="3589200" cy="51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빈곤 – 양극화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103640" y="3068640"/>
            <a:ext cx="936720" cy="7207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5562720"/>
            <a:ext cx="3200400" cy="51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건강한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1683000" y="4641840"/>
            <a:ext cx="707760" cy="720720"/>
          </a:xfrm>
          <a:custGeom>
            <a:avLst/>
            <a:gdLst>
              <a:gd name="textAreaLeft" fmla="*/ 110520 w 707760"/>
              <a:gd name="textAreaRight" fmla="*/ 619560 w 7077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6712200" y="4641840"/>
            <a:ext cx="707760" cy="720720"/>
          </a:xfrm>
          <a:custGeom>
            <a:avLst/>
            <a:gdLst>
              <a:gd name="textAreaLeft" fmla="*/ 110520 w 707760"/>
              <a:gd name="textAreaRight" fmla="*/ 619560 w 7077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263680"/>
            <a:ext cx="3822480" cy="20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민간중심 의료공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민간의료기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의료법인 영리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국영리병원 유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209680"/>
            <a:ext cx="363384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공공중심 의료공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공공의료기관 확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0-&gt;50%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민간 공공성 강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257800"/>
            <a:ext cx="3433680" cy="104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미국식 의료공급체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빈곤 – 양극화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5207040"/>
            <a:ext cx="3011760" cy="111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건강한 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068640"/>
            <a:ext cx="936720" cy="7207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1769760" y="4402080"/>
            <a:ext cx="685800" cy="7207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723000" y="4402080"/>
            <a:ext cx="685800" cy="7207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404640"/>
            <a:ext cx="6840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정책방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16000" y="260280"/>
            <a:ext cx="6705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로드맵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1523880"/>
          <a:ext cx="8534160" cy="4861080"/>
        </p:xfrm>
        <a:graphic>
          <a:graphicData uri="http://schemas.openxmlformats.org/drawingml/2006/table">
            <a:tbl>
              <a:tblPr/>
              <a:tblGrid>
                <a:gridCol w="761760"/>
                <a:gridCol w="7772400"/>
              </a:tblGrid>
              <a:tr h="4892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 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 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부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①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건강보험 비급여의 급여화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 ② 의료급여 대상자의 본인부담 폐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차상위 계층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하위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%)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폐지 ④ 임산부 및 영유아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5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세 미만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의 폐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재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사회적 협약방식의 수가 계약 실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서비스적 정성평가 도입  ③ 차상위계층 보험료면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④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의약품등재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positive list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도입 및 약가계약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⑤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부문 총액 계약제 및 인두제 실시 ⑥ 장기요양수가 개발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도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⑦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보험료 부담율 개편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가입자 부담율 </a:t>
                      </a:r>
                      <a:r>
                        <a:rPr b="1" lang="ko-KR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4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체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도시형보건지소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시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구의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 동 시범 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46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 </a:t>
                      </a: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지역중심공공병원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00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병상 규모 확장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 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민간중소병원 매입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통한 공공요양병원 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행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관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의료기관 관리 일원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건강보험법 및 의료급여법 부분 개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의료에 관한 법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지역보건법 개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333360"/>
            <a:ext cx="6705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로드맵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2600" y="1600200"/>
          <a:ext cx="8577360" cy="4800240"/>
        </p:xfrm>
        <a:graphic>
          <a:graphicData uri="http://schemas.openxmlformats.org/drawingml/2006/table">
            <a:tbl>
              <a:tblPr/>
              <a:tblGrid>
                <a:gridCol w="725400"/>
                <a:gridCol w="7851960"/>
              </a:tblGrid>
              <a:tr h="50652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 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 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3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부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건강보험 하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%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본인부담 폐지 ②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상 본인부담 폐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장애인 본인부담 폐지 및 포괄적 재활급여 제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④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본인부담 상한선 인하 및 소득구간별 차등 적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3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재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료급여와 건강보험의 통합적 운영  ② 필수약품 지정 및 특허권 제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약가결정구조 개혁  ④ 치과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한방 총액계약제 실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⑤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험료 부담율 개편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입자 부담율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9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체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  ② 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소씩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%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  ④ 공공의료전달체계 확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⑤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민간부문 자본비용 제공 및 소유지배구조 개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⑥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료인력 공급 공공화 추진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과대학 무상교육 실시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행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관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보건의료위원회 구성  ② 건강보험법 및 의료급여법 전면 개정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료법 개정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16000" y="404640"/>
            <a:ext cx="6705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? - 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로드맵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447920"/>
          <a:ext cx="8534160" cy="4933800"/>
        </p:xfrm>
        <a:graphic>
          <a:graphicData uri="http://schemas.openxmlformats.org/drawingml/2006/table">
            <a:tbl>
              <a:tblPr/>
              <a:tblGrid>
                <a:gridCol w="1601640"/>
                <a:gridCol w="6932520"/>
              </a:tblGrid>
              <a:tr h="53316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 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 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부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본인부담 전면폐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②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굴림체"/>
                          <a:ea typeface="굴림체"/>
                        </a:rPr>
                        <a:t>상병수당의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재원조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산재보험과 건강보험의 통합적 운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의원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병원 순서로 총액계약제 실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보험료 부담의 누진제 적용 실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급체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동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설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설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③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시군구별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개소씩 설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④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공공제약회사 설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7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행정관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①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지역보건의료위원회에 지역 공공의료기관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 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획 및 평가 권한 위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②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사회보장청 신설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42920" y="4508640"/>
            <a:ext cx="7086600" cy="181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무상의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강권 보장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강 형평성  확보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빈곤과 양극화에 대한 대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04640"/>
            <a:ext cx="7993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무상의료란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63640" y="1676520"/>
            <a:ext cx="56880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정부의 의료 개방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시장화 중심 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666880"/>
            <a:ext cx="2895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양면적 국민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666880"/>
            <a:ext cx="29718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병원 영리화 요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038480" y="3009960"/>
            <a:ext cx="1066680" cy="6858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 rot="8100000">
            <a:off x="5637960" y="3580920"/>
            <a:ext cx="762120" cy="6858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rot="2700000">
            <a:off x="2476080" y="3619440"/>
            <a:ext cx="762120" cy="6858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2:55:06Z</dcterms:created>
  <dc:creator>minno</dc:creator>
  <dc:description/>
  <dc:language>en-US</dc:language>
  <cp:lastModifiedBy>Admin</cp:lastModifiedBy>
  <dcterms:modified xsi:type="dcterms:W3CDTF">2007-04-14T07:09:08Z</dcterms:modified>
  <cp:revision>63</cp:revision>
  <dc:subject/>
  <dc:title>PowerPoint 프레젠테이션</dc:title>
</cp:coreProperties>
</file>